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AE4-CFB8-4EF6-9950-C384F315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783-5C69-4407-AF82-3753CD4A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745-7C37-4D94-B49E-0688F4B6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C9C-B726-4BBD-8C13-2191A405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202F-5912-4E53-B9D4-A319155F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E15A-818B-49B2-931F-F910F7D4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6311-E616-405A-95CB-4C201AB0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221F-652B-4507-9964-DC32CF80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118B-4631-4C39-A6B3-56875A26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9C76-5BB0-473A-BAF0-EE9EC42F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E453-5557-4B96-BB0D-A44E4EAF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DB1-B36B-4E97-BF14-3A21FCD8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3C33-3BD1-4332-9B43-158F4580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EAEF-6710-49EC-9E2F-B3EA1DA6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03CD-942B-4B6E-A11C-CC6ED619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BD26-29EE-4A58-8EBE-408A63EC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FA13-CD68-4E92-A71E-6F8AC952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BE7-014D-447B-B9CD-AF019814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AFD-FAFA-4FEA-BD39-8E4267A2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D2E-1D00-4B4D-A88D-8AE3DD2F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EFB-D8AC-4BC3-8EB1-1ECBE97B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026-42D8-4C4B-B55F-30EABDD9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36C-BA6E-40B4-817F-78D2AA2A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517-954A-4731-A679-FDFF4661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E0A2-B49F-4C90-8B40-01030CE4B6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92BF-5DFC-48C0-B2A9-8BFBE819E5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ustan.edu/english/reuben/pal/chap5/5intro.html" TargetMode="External"/><Relationship Id="rId2" Type="http://schemas.openxmlformats.org/officeDocument/2006/relationships/hyperlink" Target="http://www.wsu.edu/~campbelld/amlit/lcolor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A Country Divided and Restored- The Civil War and its Aftermath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1860-1915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h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Mark Twai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Fredrick Dougla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lliam Dean Howe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nry Jam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Kate Chopi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ank Norr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Stephen Cran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Ambrose Bier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Walt Whit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Jack Lond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Emily Dickin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Bret Har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Kate Chopi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Willa Cath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s/bibliograp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www.csustan.edu/english/reuben/pal/chap5/5intro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thetalon.andrewhill.org/MISC/unit3a_study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www.wsu.edu/~campbelld/amlit/lcolor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Literaryexplorerer.blondelibrarian.net/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Tim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ivil War- 186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supposed to end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four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rific and sorrow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’s assass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ed writer's of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ssu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lavery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uthern devastation and reconstruc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rthern boom in indust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migr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pulation doubled a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 Change in the Count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griculture decreas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dustrialization increas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olitical corruption incre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re emphasis on power, control and weal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dealism and positive-ness hard to fin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cribing the actual human experie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cus on the characters rather plot of wri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s control destinies and act on natu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oking for ideal through moral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agmatis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cus on democra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alt with the common man, the common place and the common situations for the tim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ism- continu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eat description/ imag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lationships between people and socie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bjectivity/3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erson omniscient point of view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thical issues discuss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sychological issu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picts real life as it 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alism is nothing more and nothing less that the truthful treatment of material- William Dean Howe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ional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276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form of realis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ach area of the country represent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rite in the present day- not past or pres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ocal custo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etting importa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mes- rural vs. urban; adversity for character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33920" y="16765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as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avery, politics, corruption, w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terrain, gold mining, new ways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outh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wamps and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estry and mixed blo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id-wes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l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i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cal Col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orm of regional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al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la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language of a peo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urrences common to ar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ique settings are characters itsel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men often unmarried; men known for unique character tra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tural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owed life even in a more natural light that the realis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 is just a higher order animal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s nature versus nurture 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 just reacts/responds to na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cientific in present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bjectiv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tach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mes- nature’s indiffere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5:31:59Z</dcterms:created>
  <dc:creator>Clark Lunstrum</dc:creator>
  <dc:description/>
  <dc:language>en-US</dc:language>
  <cp:lastModifiedBy>Administator</cp:lastModifiedBy>
  <dcterms:modified xsi:type="dcterms:W3CDTF">2007-03-07T14:52:03Z</dcterms:modified>
  <cp:revision>10</cp:revision>
  <dc:subject/>
  <dc:title>A Country Divided and Restored</dc:title>
</cp:coreProperties>
</file>